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76327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5640" y="3909600"/>
            <a:ext cx="76327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680" y="159984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390960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6680" y="390960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245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120" y="1599840"/>
            <a:ext cx="245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6960" y="1599840"/>
            <a:ext cx="245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55640" y="3909600"/>
            <a:ext cx="245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120" y="3909600"/>
            <a:ext cx="245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6960" y="3909600"/>
            <a:ext cx="245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640" y="1599840"/>
            <a:ext cx="76327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76327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37245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6680" y="1599840"/>
            <a:ext cx="37245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55640" y="692280"/>
            <a:ext cx="76327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680" y="1599840"/>
            <a:ext cx="37245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5640" y="390960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55640" y="1599840"/>
            <a:ext cx="76327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37245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59984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6680" y="390960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59984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09600"/>
            <a:ext cx="76327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76327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55640" y="3909600"/>
            <a:ext cx="76327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680" y="159984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55640" y="390960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6680" y="390960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245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36120" y="1599840"/>
            <a:ext cx="245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6960" y="1599840"/>
            <a:ext cx="245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55640" y="3909600"/>
            <a:ext cx="245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36120" y="3909600"/>
            <a:ext cx="245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6960" y="3909600"/>
            <a:ext cx="245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76327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37245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6680" y="1599840"/>
            <a:ext cx="37245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55640" y="692280"/>
            <a:ext cx="76327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680" y="1599840"/>
            <a:ext cx="37245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55640" y="390960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37245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680" y="159984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6680" y="390960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680" y="1599840"/>
            <a:ext cx="37245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55640" y="3909600"/>
            <a:ext cx="76327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599840"/>
            <a:ext cx="76327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4868640"/>
            <a:ext cx="6659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4868640"/>
            <a:ext cx="6659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Гром и мол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8560" y="6216120"/>
            <a:ext cx="396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полнил ученик 9в кл. Попов В.С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7640" y="188640"/>
            <a:ext cx="648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0195"/>
                </a:solidFill>
                <a:latin typeface="Arial"/>
              </a:rPr>
              <a:t>Гр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79640" y="1196640"/>
            <a:ext cx="669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4f0195"/>
                </a:solidFill>
                <a:latin typeface="Arial"/>
              </a:rPr>
              <a:t>Гром возникает вследствие резкого расширения воздуха при быстром повышении температуры в канале разряда молнии. Вспышку молнии мы видим практически как мгновенную вспышку и в тот же момент, когда происходит разряд. Что же касается звука, то он распространяется значительно медленнее. В воздухе его скорость равна 330 м/с. Поэтому мы слышим гром уже после того как сверкнула молния. Чем дальше от нас молния, тем длиннее пауза между вспышкой света и громом и слабее гром. Гром от очень далеких молний вообще не доходит – звуковая энергия расходится и поглощается по пути. Такие молнии называются </a:t>
            </a:r>
            <a:r>
              <a:rPr b="1" i="1" lang="en-US" sz="2000" spc="-1" strike="noStrike">
                <a:solidFill>
                  <a:srgbClr val="4f0195"/>
                </a:solidFill>
                <a:latin typeface="Arial"/>
              </a:rPr>
              <a:t>зарницами.</a:t>
            </a:r>
            <a:r>
              <a:rPr b="1" i="1" lang="en-US" sz="2000" spc="-1" strike="noStrike" u="sng">
                <a:solidFill>
                  <a:srgbClr val="4f0195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0195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4f0195"/>
                </a:solidFill>
                <a:latin typeface="Arial"/>
              </a:rPr>
              <a:t>Заметим, что отражением звука от облаков объясняется происходящее иногда усиление громкости звука в конце громовых раска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Шаровые молн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1810800"/>
            <a:ext cx="3097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арова́я мо́л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феномен природного электричества, молния, имеющая шарообразную форму и непредсказуемую траекторию. По сей день феномен остаётся малоизученным и представляет почву для спекуляций. На данный момент  существует около 200 теорий происхож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4176720" cy="306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7400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63640" y="9720"/>
            <a:ext cx="345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51601"/>
                </a:solidFill>
                <a:latin typeface="Arial"/>
              </a:rPr>
              <a:t>Поя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Шаровая молния обычно появляется в грозовую, штормовую погоду; зачастую, но не обязательно, наряду с обычными молниями. Но имеется множество свидетельств её наблюдения в солнечную погоду. Чаще всего она как бы «выходит» из проводников или порождается обычными молниями, иногда спускается с облаков, в редких случаях — неожиданно появляется в воздухе или, как сообщают очевидцы, может выйти из какого-либо предмета (дерево, столб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908000" y="4429080"/>
            <a:ext cx="3203640" cy="2428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64000" y="0"/>
            <a:ext cx="378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1601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951601"/>
                </a:solidFill>
                <a:latin typeface="Arial"/>
              </a:rPr>
              <a:t>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ще всего шаровая молния движется горизонтально, приблизительно в метре над землёй, довольно хаотично. Имеет тенденцию «заходить» в помещения, протискиваясь при этом сквозь маленькие отверстия. Часто шаровая молния сопровождается звуковыми эффектами — треском, писком, шумами. Наводит радиопомехи. Нередки случаи, когда наблюдаемая шаровая молния аккуратно облетает находящиеся на пути предметы, так как, по одной из теорий, шаровая молния свободно перемещается по эквипотенциальным поверхнос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7400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124000" y="160200"/>
            <a:ext cx="6696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1601"/>
                </a:solidFill>
                <a:latin typeface="Arial"/>
              </a:rPr>
              <a:t>Исчезнов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аровая молния в среднем живёт от 10 секунд до нескольких часов, после чего обычно взрывается. Изредка она медленно гаснет или распадается на отдельные части. Если в спокойном состоянии от шаровой молнии исходит необычно мало тепла, то во время взрыва высвободившаяся энергия иногда разрушает или оплавляет предметы, испаряет в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2855880" cy="3313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788000" y="3357720"/>
            <a:ext cx="396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601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951601"/>
                </a:solidFill>
                <a:latin typeface="Arial"/>
              </a:rPr>
              <a:t>Размер и 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р (диаметр) шаровых молний варьируется от нескольких сантиметров до метра. Форма в подавляющем большинстве случаев сферическая, однако были сообщения о наблюдении вытянутых, дискообразных шаровых мол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7400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24000" y="16200"/>
            <a:ext cx="66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1601"/>
                </a:solidFill>
                <a:latin typeface="Arial"/>
              </a:rPr>
              <a:t>Свечение и 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ипичная суммарная мощность излучения — порядка 100 Вт; свечение иногда тусклее, иногда ярче. Цвет — начиная от белого и жёлтого, заканчивая зелёным. Часто отмечалась пятнистость свечения. Установлено, что шаровая молния может быть не только в виде светящегося, яркого образ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67200" y="2421000"/>
            <a:ext cx="4094280" cy="424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8000" y="2349360"/>
            <a:ext cx="295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ть и невидимые, и черные шаровые молнии. О них упоминается даже в литературе: «Гордо реет буревестник, черной молнии подобный». У Куприна рассказ так и называется «Черная молния». Свидетели заявляют, она как бы состоит из загадочных нитей, сплетенных в клу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 защитить себя во время гро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691920"/>
            <a:ext cx="7632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119700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кройте все окна и двери, отключите от сети электроприборы, не прикасайтесь к проводным телефонам, кабелям телевизионных антенн. Желательно не подходить к ваннам и раковинам, поскольку металлические трубы также могут проводить электричество. Если вдруг в комнату залетела шаровая молния, постарайтесь быстро покинуть помещение и закрыть дверь с другой стороны. Если выйти не удалось, хотя бы просто замр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3068640"/>
            <a:ext cx="7561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ул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казавшись на улице, лучше всего спрятаться в доме или машине (только предварительно опустите радиоантенну у авто). Если поблизости укрытия нет, выйдите на открытую местность и согнувшись, прижмитесь к земле. Просто ложиться на землю нельз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стойте в толпе. Соблюдайте дистанцию не меньше 10 метров. Иначе если ударит молния – полягут в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бавьтесь от металлических предметов. Бляхи, сережки, цепочки и т.п. вещи лучше снять. Замечено, что молния часто ударяет в металлические предм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 защитить себя во время гро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920" y="765000"/>
            <a:ext cx="7632720" cy="44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лесу и на открытом простран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лесу от грозы лучше укрыться под низкими кустами, но никак не под деревьями (тем более под стоящими отдельно). Не прячьтесь под дубами и тополями. В них молния попадает чаще, чем в другие деревья (вроде бы из-за повышенного содержания крахмала и более высокой проводимости). А вот в клен и березу молния попадает сравнительно редк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3284640"/>
            <a:ext cx="72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вы находитесь в открытом месте, возвышенности и вдруг слышите странный шум, исходящий от предметов, чувствуете как электризуется воздух это значит вот-вот ударит молния, нагнитесь вперед, положив руки на колени (но не на землю!!). Ноги должны быть вместе, пятки прижаты друг к другу (если ноги не соприкасаются, то разряд пройдет через тел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гроза застала вас в лодке и к берегу приплыть вы уже не успеваете, пригнитесь ко дну лодки, соедините ноги и накройте голову и 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55640" y="1599840"/>
            <a:ext cx="76327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регите себ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7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з исто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50403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еловеческий ум с глубокой древности пытается постичь загадочную природу молнии и гро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 первобытных людей гроза производила сильное впечатление, вселяя ужас и священный трепет. В страхе перед грозой люди обожествляли ее или считали орудием своих богов. Восточные славяне в древности чтили бога Перуна, «творца» молнии и грома. Позже наши предки гром и молнию приписывали «деятельности» Ильи-пророка, который, «катаясь на колеснице по небу, пускает огненные стрелы». Боги грома и молнии известны религиозных представлениях и других народ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д природой молнии и грома задумывались Аристотель и Лукреций. Но в те далекие времена разгадать эту природу ученым было не под силу. Многие столетия, включая средние века, считалось, что молния – это огненный шар, зажатый в водяных парах туч. Расширяясь, он прорывает их в наиболее слабом месте и быстро устремляется вниз, к поверхности зем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580000" y="2276640"/>
            <a:ext cx="2752920" cy="2752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632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4f0195"/>
                </a:solidFill>
                <a:latin typeface="Arial"/>
              </a:rPr>
              <a:t>Опыт Б. Франкл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24000" y="1052640"/>
            <a:ext cx="662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0195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4f0195"/>
                </a:solidFill>
                <a:latin typeface="Arial"/>
              </a:rPr>
              <a:t>В 1752 г. Бенджамин Франклин экспериментально доказал, что </a:t>
            </a:r>
            <a:r>
              <a:rPr b="1" i="1" lang="ru-RU" sz="2000" spc="-1" strike="noStrike" u="sng">
                <a:solidFill>
                  <a:srgbClr val="4f0195"/>
                </a:solidFill>
                <a:uFillTx/>
                <a:latin typeface="Arial"/>
              </a:rPr>
              <a:t>молния – это сильный электрический разряд.</a:t>
            </a:r>
            <a:r>
              <a:rPr b="1" i="1" lang="ru-RU" sz="2000" spc="-1" strike="noStrike">
                <a:solidFill>
                  <a:srgbClr val="4f0195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f0195"/>
                </a:solidFill>
                <a:latin typeface="Arial"/>
              </a:rPr>
              <a:t>Ученый выполнил знаменитый опыт с воздушным змеем, который был запущен в воздух при приближении грозы. На крестовине змея была укреплена заостренная проволока, к концу бечевки привязаны ключ и шелковая лента. Ленту ученый придерживал рукой. Из письма Франклина: «Как только грозовая туча окажется над змеем, заостренная проволока начнет извлекать из неё электрический огонь, и змей вместе с бечевой наэлектризуются… А когда дождь смочит змей вместе с бечевой, вы увидите как разряд обильно стекает с ключа при приближении вашего пальца». Одновременно с Франклином исследование электрической природы молнии занимались М.В. Ломоносов и Г.Р. Рихман (погиб от удара молнии). </a:t>
            </a:r>
            <a:r>
              <a:rPr b="0" lang="ru-RU" sz="2000" spc="-1" strike="noStrike">
                <a:solidFill>
                  <a:srgbClr val="4f0195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f0195"/>
                </a:solidFill>
                <a:latin typeface="Arial"/>
              </a:rPr>
              <a:t>Через некоторое время стало ясно, что молния представляет собой </a:t>
            </a:r>
            <a:r>
              <a:rPr b="1" lang="ru-RU" sz="2000" spc="-1" strike="noStrike">
                <a:solidFill>
                  <a:srgbClr val="951601"/>
                </a:solidFill>
                <a:latin typeface="Arial"/>
              </a:rPr>
              <a:t>мощный электрический разряд, возникающий при сильной электризации ту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2411280" cy="3429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ол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1484280"/>
            <a:ext cx="3168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олния — гигантский электрический искровой разряд в атмосфере, обычно происходит во время грозы, проявляющийся яркой вспышкой света и сопровождающим её громом. Молнии также были зафиксированы на Венере, Юпитере, Сатурне и Уране. Ток в разряде молнии достигает 10-20 тысяч ампер, поэтому мало кому из людей удается выжить после поражения их молн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95640" y="1844640"/>
            <a:ext cx="4392720" cy="331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80"/>
                            </p:stCondLst>
                            <p:childTnLst>
                              <p:par>
                                <p:cTn id="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8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1601"/>
                </a:solidFill>
                <a:latin typeface="Arial"/>
              </a:rPr>
              <a:t>Какие бывают молни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7400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2154600"/>
            <a:ext cx="424836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0195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4f0195"/>
                </a:solidFill>
                <a:latin typeface="Arial"/>
              </a:rPr>
              <a:t>По виду мол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0195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4f0195"/>
                </a:solidFill>
                <a:latin typeface="Arial"/>
              </a:rPr>
              <a:t>различаютс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1601"/>
                </a:solidFill>
                <a:latin typeface="Arial"/>
              </a:rPr>
              <a:t>линейные</a:t>
            </a:r>
            <a:r>
              <a:rPr b="1" lang="en-US" sz="2400" spc="-1" strike="noStrike">
                <a:solidFill>
                  <a:srgbClr val="4f0195"/>
                </a:solidFill>
                <a:latin typeface="Arial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1601"/>
                </a:solidFill>
                <a:latin typeface="Arial"/>
              </a:rPr>
              <a:t>жемчуж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1601"/>
                </a:solidFill>
                <a:latin typeface="Arial"/>
              </a:rPr>
              <a:t>шар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019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f0195"/>
                </a:solidFill>
                <a:latin typeface="Arial"/>
              </a:rPr>
              <a:t>Жемчужные и шаровые молнии довольно редкое явлени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0195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84720" y="2205000"/>
            <a:ext cx="3025800" cy="403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нейные молн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4883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Форма линейной молнии обычно похожа на разветвленные корни разросшегося в поднебесье дерева. Длина линейной молнии составляет несколько километров, но может достигать 20 км и более. Основной канал молнии имеет несколько ответвлений длиной 2-3 км. Диаметр канала молнии составляет от 10 до 45 см. Длительность существования молнии составляет десятые доли секунды. Средняя скорость движения молнии 150 км/с. Сила тока внутри канала молнии доходит до 200000 А. Температура плазмы в молнии превышает 10000°С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5254920" cy="3287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нутриоблачные молн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37400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ина внутриоблачной молнии колеблется от 1 до 150 км. Доля внутриоблачных молний растет по мере смещения к экватору, меняясь от 0,5 в умеренных широтах до 0,9 в экваториальной полосе. Прохождение молнии сопровождается изменениями электрических и магнитных полей и радиоизлучением, так называемыми атмосфериками. Вероятность поражения молнией наземного объекта растет по мере увеличения его высоты и с увеличением электропроводности почвы на поверхности или на некоторой глубине (на этих факторах основано действие громоотвода). Если в облаке существует электрическое поле, достаточное для поддержания разряда, но недостаточное для его возникновения, роль инициатора молнии может выполнить длинный металлический трос или самолёт — особенно, если он сильно электрически заряжен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3744720" cy="2824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земные молн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41004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цесс развития наземной молнии состоит из несколько стадий. На первой стадии в зоне, где электрическое поле достигает критического значения, начинается ударная ионизация, создаваемая вначале свободными электронами, всегда имеющимися в небольшом количестве в воздухе, которые под действием электрического поля приобретают значительные скорости по направлению к земле и, сталкиваясь с молекулами, составляющими воздух, ионизуют их. Таким образом возникают электронные лавины, переходящие в нити электрических разрядов — стримеры, представляющие собой хорошо проводящие каналы, которые, сливаясь, дают начало яркому термоионизованному каналу с высокой проводимостью — ступенчатому лидеру молн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311640" cy="4416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63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Жемчужные молн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03640" y="981000"/>
            <a:ext cx="3313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мчужная (четочная) молния очень редкое и красивое явление. Появляется сразу после линейной молнии и исчезает постепенно. Преимущественно разряд жемчужной молнии следует по пути линейной. Молния имеет вид светящихся шаров, расположенных на расстоянии 7-12 м друг от друга, напоминая собой жемчуг, нанизанный на нитк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мчужная молния может сопровождаться значительными звуковыми эффе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3816360" cy="2791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42920" y="3619800"/>
            <a:ext cx="4176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никальные кад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«В противоположность обычной длительности разряда молнии, измеряемой миллисекундами, свечение в этом случае длилось несколько десятых секунды, причем по одному и тому же каналу прошли три отдельных разряда, каждый из которых распался на ясные, отделенные друг от друга гранулы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9:47:01Z</dcterms:created>
  <dc:creator>Elena</dc:creator>
  <dc:description/>
  <dc:language>en-US</dc:language>
  <cp:lastModifiedBy>Sanosol</cp:lastModifiedBy>
  <dcterms:modified xsi:type="dcterms:W3CDTF">2010-06-02T13:18:42Z</dcterms:modified>
  <cp:revision>14</cp:revision>
  <dc:subject/>
  <dc:title>Мол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19000000000001023620</vt:lpwstr>
  </property>
</Properties>
</file>